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FE1-793B-4603-9EF3-67274296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D92-C6F3-470A-B456-273D58B8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9E9-C46A-4F10-A446-22D1E68E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9B9-AE84-405C-9525-5B93E1E8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900-D142-4696-A59B-1AB6263C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C5D-C82B-4508-8DF6-A794933D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CC5-422E-408B-9EBC-4A1232FD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9D3-BC06-46CD-B330-2AD52DFB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ABA-2D81-40BE-BD8E-DC4A5AB6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1F4-9286-4327-ABB1-8D3F5B1E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951-F44F-409D-8191-54770275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1AA-2654-470B-A89C-A4F292EF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C69F-6323-4371-80E7-E240FA33D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Subway"/>
              </a:rPr>
              <a:t>Courts at Wor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http://www.econ.ucsb.edu/~tedb/Journals/gavel.jpg"/>
          <p:cNvPicPr/>
          <p:nvPr/>
        </p:nvPicPr>
        <p:blipFill>
          <a:blip r:embed="rId1"/>
          <a:stretch/>
        </p:blipFill>
        <p:spPr>
          <a:xfrm>
            <a:off x="2743200" y="3276720"/>
            <a:ext cx="3838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Verd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erdi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final decision of th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urt may ru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l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gui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jury trial, all jurors must agree to find someone guilty.  If they cannot agree it is a “hung jury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uilty decision can only be announced if the prosecutor has proven his case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beyond a reasonable doub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://cache.diomedia.com/170/01/A4/Z1/01A4-Z1TN.jpg"/>
          <p:cNvPicPr/>
          <p:nvPr/>
        </p:nvPicPr>
        <p:blipFill>
          <a:blip r:embed="rId1"/>
          <a:stretch/>
        </p:blipFill>
        <p:spPr>
          <a:xfrm>
            <a:off x="1395360" y="2712960"/>
            <a:ext cx="2795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IL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724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guilty verdict is reached, the jury usually recommends a pu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fficial punishment is given out by the judge at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ntenc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defendant maintains his innocence, he ca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 higher court.  The higher court can re-consider his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re is a not guilty verdict, the government may NOT appeal.  That would be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uble jeopard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, banned by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://latimesblogs.latimes.com/lanow/images/2008/06/26/the_jury_has_spoken.jpg"/>
          <p:cNvPicPr/>
          <p:nvPr/>
        </p:nvPicPr>
        <p:blipFill>
          <a:blip r:embed="rId1"/>
          <a:stretch/>
        </p:blipFill>
        <p:spPr>
          <a:xfrm>
            <a:off x="5076720" y="2641680"/>
            <a:ext cx="34466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venile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inal cases involving juveniles are handled diffe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veniles are those under age eigh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ult c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court’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 is to punis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gui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venile c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court’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 is to rehabili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 change the behavior of the guilty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777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http://justgetthere.us/blog/uploads/juvenile-court.jpg"/>
          <p:cNvPicPr/>
          <p:nvPr/>
        </p:nvPicPr>
        <p:blipFill>
          <a:blip r:embed="rId1"/>
          <a:stretch/>
        </p:blipFill>
        <p:spPr>
          <a:xfrm>
            <a:off x="419040" y="2133720"/>
            <a:ext cx="45784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ed as an 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However, if a juvenile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ommits a crime that would be a felony for an adult, they can be tried as an adult.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Virginia anyone who is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fourtee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or over can be tried as an adul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y can even receive the death sentence if the crime is terrible enough and they are at least a teenager, although it is uncommon for those below age sixte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ther than Texas, Virginia has executed more juveniles than any state since 197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estseattleblog.com/blog/wp-content/uploads/2009/04/hailey3.jpg"/>
          <p:cNvPicPr/>
          <p:nvPr/>
        </p:nvPicPr>
        <p:blipFill>
          <a:blip r:embed="rId1"/>
          <a:stretch/>
        </p:blipFill>
        <p:spPr>
          <a:xfrm>
            <a:off x="4970520" y="2171880"/>
            <a:ext cx="3400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venile He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19720" y="1371240"/>
            <a:ext cx="4572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veniles always receiv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ench tr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Juries are never used in Juvenil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juvenile’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ents must be kept inform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ll procee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ses are held i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uvenile and Domestic Relations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ases are held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v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no one is allowed in the court who is not part of the case.  The result is also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s are kept private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://www.explorebaltimorecounty.com/photographs/2318_ee58e284f2b1fa09264ed826449ec1b2_center.jpg"/>
          <p:cNvPicPr/>
          <p:nvPr/>
        </p:nvPicPr>
        <p:blipFill>
          <a:blip r:embed="rId1"/>
          <a:stretch/>
        </p:blipFill>
        <p:spPr>
          <a:xfrm>
            <a:off x="1143000" y="2362320"/>
            <a:ext cx="3143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venile Pun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udges have greater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latitude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 sentencin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meaning they ca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cide the punishment to fit the individu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s well as the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not judged to be a threat, they can be sentenced to community service, counseling, probation, or other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uveniles can be sentenced to stay in a detention home if they are judged to be a danger to themselves or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can be held there until age 21 if necess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lawanddisorder.org/wp-content/uploads/juvenile.jpg"/>
          <p:cNvPicPr/>
          <p:nvPr/>
        </p:nvPicPr>
        <p:blipFill>
          <a:blip r:embed="rId1"/>
          <a:stretch/>
        </p:blipFill>
        <p:spPr>
          <a:xfrm>
            <a:off x="4800600" y="2666880"/>
            <a:ext cx="40734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 cases are conducted somewhat differently from crimina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 of a trial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ivil court proceedings are known as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aws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 who files the lawsu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known as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inti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fend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i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 being 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GFC1444"/>
          <p:cNvPicPr/>
          <p:nvPr/>
        </p:nvPicPr>
        <p:blipFill>
          <a:blip r:embed="rId1"/>
          <a:stretch/>
        </p:blipFill>
        <p:spPr>
          <a:xfrm>
            <a:off x="990720" y="234324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day(s) in c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952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ivil lawsuits may have a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judge or jury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decide the verdict.  This is guaranteed by the Seventh Amendment.  The defendant gets to choo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re are witnesses and evidence, just like a criminal t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winner is decided by a “preponderance of evidence”; “beyond a reasonable doubt” is not necessary in civil matt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f the plaintiff wins, </a:t>
            </a: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damag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are awar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ither side can </a:t>
            </a:r>
            <a:r>
              <a:rPr b="1" i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the decision to a higher court if not satisfi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http://tlt.its.psu.edu/about/news/files/11.3.JPG/image_preview"/>
          <p:cNvPicPr/>
          <p:nvPr/>
        </p:nvPicPr>
        <p:blipFill>
          <a:blip r:embed="rId1"/>
          <a:stretch/>
        </p:blipFill>
        <p:spPr>
          <a:xfrm>
            <a:off x="4780080" y="2720880"/>
            <a:ext cx="39067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nstitution protects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atever type of case, the </a:t>
            </a: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Bill of Right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of the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stitution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guarantees defendants some basic protec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o unreasonable searches (4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o excessive bail (8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peedy trial guaranteed (6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ial by jury guaranteed (6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, 7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o Self-Incrimination (5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ight to an attorney (6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o Double Jeopardy (5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o Cruel and unusual (8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 punish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the bill of rights. &#10;fotosearch - search &#10;stock photos, &#10;pictures, images, &#10;and photo clipart"/>
          <p:cNvPicPr/>
          <p:nvPr/>
        </p:nvPicPr>
        <p:blipFill>
          <a:blip r:embed="rId1"/>
          <a:stretch/>
        </p:blipFill>
        <p:spPr>
          <a:xfrm>
            <a:off x="380880" y="2057400"/>
            <a:ext cx="40388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min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n adult criminal case has many ste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t usually is not completed in one day, especially felony ca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first step is the </a:t>
            </a:r>
            <a:r>
              <a:rPr b="1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arrest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when you are taken into police custody on suspicion of a cr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f the crime is minor, instead of arrest, a </a:t>
            </a:r>
            <a:r>
              <a:rPr b="1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summon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is issued.  It orders either a fine to be paid or a court dat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http://humarashid.files.wordpress.com/2010/02/rove_arrested.jpg"/>
          <p:cNvPicPr/>
          <p:nvPr/>
        </p:nvPicPr>
        <p:blipFill>
          <a:blip r:embed="rId1"/>
          <a:stretch/>
        </p:blipFill>
        <p:spPr>
          <a:xfrm>
            <a:off x="961920" y="2209680"/>
            <a:ext cx="3378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l it to the ju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Soon after the arrest, the police must present the person arrested before a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magistrat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or justice of the peace.  This is called a </a:t>
            </a:r>
            <a:r>
              <a:rPr b="1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writ of habeas corp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 Magistrat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is an officer of the court who handles the lesser work of jud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police must show </a:t>
            </a:r>
            <a:r>
              <a:rPr b="1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probable caus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or good reason to suspect that you could be guilty of the cr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ll suspects are considered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“innocent until proven guilty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http://www.memphisinjurylawyerblog.com/Judge%20using%20Gavel.jpg"/>
          <p:cNvPicPr/>
          <p:nvPr/>
        </p:nvPicPr>
        <p:blipFill>
          <a:blip r:embed="rId1"/>
          <a:stretch/>
        </p:blipFill>
        <p:spPr>
          <a:xfrm>
            <a:off x="4800600" y="2362320"/>
            <a:ext cx="36162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o do with you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19720" y="12952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magistrate can make multiple decisions about yo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f he judges there was not probable cause, he can let you 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f he believes there was probable cause, he has a few op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f the charge is not too serious or you have a clean record, he could set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bail</a:t>
            </a: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r yo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Bail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s an amount of money you pay to get out of jail until your trial, you get it back when you show up for the court d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amount of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bail must fit the crim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.  This is guaranteed by the </a:t>
            </a: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Eighth Amendment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http://t2.gstatic.com/images?q=tbn:ANd9GcT4IA5YzZxEI1SSdThsw_f2pHTaa9uUON0vEjCkyy-cjavQkSdkaKHFwZth"/>
          <p:cNvPicPr/>
          <p:nvPr/>
        </p:nvPicPr>
        <p:blipFill>
          <a:blip r:embed="rId1"/>
          <a:stretch/>
        </p:blipFill>
        <p:spPr>
          <a:xfrm>
            <a:off x="1523880" y="2286000"/>
            <a:ext cx="25369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ck ‘em u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5029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you cannot afford bail, you can use a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ail bondsm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  You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y him 10% of your bail to get out, but you don’t get it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you don’t show up for your trial, he’ll come find you, and he won’t be hap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you are charged with a very serious felony or you have a record of not showing up for court, you can be held in jail until your t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is always the case with a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apital crim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ne which carries the death sent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ever he decides, he will also set a date for you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rra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media-cdn.tripadvisor.com/media/photo-s/00/11/50/29/inside-the-jail.jpg"/>
          <p:cNvPicPr/>
          <p:nvPr/>
        </p:nvPicPr>
        <p:blipFill>
          <a:blip r:embed="rId1"/>
          <a:stretch/>
        </p:blipFill>
        <p:spPr>
          <a:xfrm>
            <a:off x="5334120" y="1752480"/>
            <a:ext cx="3592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ra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an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rraignme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the person accused is brought before a judge and enters thei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l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le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claration of guilt or innocence by the acc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judge als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ts a court dat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the trial.  There must be a “speedy trial” date as guaranteed by the 6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metimes a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lea bargai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will be arranged. 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cused agrees to plead guilty in order to receive a lesser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http://media.marconews.com/media/img/photos/2010/06/18/100618NS-GK-GORDONDEATH310_t607.jpg"/>
          <p:cNvPicPr/>
          <p:nvPr/>
        </p:nvPicPr>
        <p:blipFill>
          <a:blip r:embed="rId1"/>
          <a:stretch/>
        </p:blipFill>
        <p:spPr>
          <a:xfrm>
            <a:off x="777960" y="2324160"/>
            <a:ext cx="3854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ri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cides the guilt or innocence of the acc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a trial, the person accused of a crime is known as the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efend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defendant’s lawyer is known as the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efense attorn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rosecuto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s the lawyer for the government who attempts to prove the defendant guil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state trials the prosecutor is called the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mmonwealth Attorne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in federal trials he is known a the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U.S. Attorn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www4.pictures.gi.zimbio.com/Nai+Yin+Xue+Appears+Auckland+High+Court+Trial+OhqKS7jFfZ1l.jpg"/>
          <p:cNvPicPr/>
          <p:nvPr/>
        </p:nvPicPr>
        <p:blipFill>
          <a:blip r:embed="rId1"/>
          <a:stretch/>
        </p:blipFill>
        <p:spPr>
          <a:xfrm>
            <a:off x="4724280" y="2209680"/>
            <a:ext cx="3921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ry Any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jail time is a possible punishment, a defendant has the choice of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ury tr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nch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ench tr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judge decides guilt or inno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ury tr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 group of your peers de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jury is used, they are selected from a group of citizens randomly cho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the prosecutor and defense attorney try to pick a jury that will fav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www.pastfoundation.org/2008Forensics/Updates/July03/Jury%20duty%20can%20be%20long,%20intense,%20and%20confusing,%20even%20if%20you%20know%20and%20understand%20what%20is%20being%20said.JPG"/>
          <p:cNvPicPr/>
          <p:nvPr/>
        </p:nvPicPr>
        <p:blipFill>
          <a:blip r:embed="rId1"/>
          <a:stretch/>
        </p:blipFill>
        <p:spPr>
          <a:xfrm>
            <a:off x="351000" y="1981080"/>
            <a:ext cx="4065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ring th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sides will call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witness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eople who have information to tell about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necessary, a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ubpoen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an be issued, a court order forcing someone to appear in court.  Only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fendant cannot be forced to testify (Fifth Amend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itnesses give sworn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estimon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in which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y promise to tell the information about what they know under penalty of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secutor and defense attorney also present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viden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tems and documents which are used to prove their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://www.lawdragon.com/ldimages/lawyer%20and%20jury.jpg"/>
          <p:cNvPicPr/>
          <p:nvPr/>
        </p:nvPicPr>
        <p:blipFill>
          <a:blip r:embed="rId1"/>
          <a:stretch/>
        </p:blipFill>
        <p:spPr>
          <a:xfrm>
            <a:off x="4800600" y="1981080"/>
            <a:ext cx="4160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21:09:07Z</dcterms:created>
  <dc:creator>Phillip McGinnis</dc:creator>
  <dc:description/>
  <dc:language>en-US</dc:language>
  <cp:lastModifiedBy>Phillip McGinnis</cp:lastModifiedBy>
  <dcterms:modified xsi:type="dcterms:W3CDTF">2011-02-23T20:56:38Z</dcterms:modified>
  <cp:revision>59</cp:revision>
  <dc:subject/>
  <dc:title>Slide 1</dc:title>
</cp:coreProperties>
</file>